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A18-98AA-45B1-8D2F-DAA7A71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62E-3022-40D3-A484-0C25CCD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D9DE8-A251-4A26-BF57-CA30798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5CED6-C195-4A9B-A8F5-16D5CD9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BB585-15ED-460D-8B4E-779F9F17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189BE-75A2-40DA-B359-A8446C7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89703-A441-4972-9796-799C40B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C4448-F4E4-497E-B7CE-9FA3F2E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96FB-B270-4827-9607-5DA6B0DF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1F01F-49C4-4F06-8753-67438528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66D7-B1EB-4D81-9864-D7643C18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D0020-6337-490A-8738-7C17620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EA7-6A83-4239-8A73-E83554C4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563CB-DBF6-4429-BDCB-F21B3A89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EA65A-DF17-4891-A395-93F8393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DAC5D-8FEE-48C8-906A-27CE363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4664D-73DE-467F-9403-0BC6214B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696DB-C833-46F8-B5DB-462F6EF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F495-53F3-4CE5-81B4-EC495E4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2E15D-B7BB-44CD-A5AF-FE61002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3947-8BE1-4FAB-9547-A6682A3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E134-71A9-4003-B1BE-E0E950E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F25B-A3C6-4076-9E68-3C4C015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E81-E051-4B6D-AA21-D4C70EE0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66638-AB43-48CD-A277-3B28FC0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FD96-8435-4D41-833F-5B503E8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D016-5FB9-4356-BA67-7FA3C77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7314-5FEB-44E2-9FEC-388881C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2BB6-01AB-435D-9C3F-20CC6CF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B46B-CD35-4525-A776-44EDCF95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807E-8D93-45F5-9B79-10F227E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A7F8-C70C-4E03-93E5-917418C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E66-F912-434D-AC86-1602C76F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C4EF9-E1B0-4752-A78E-5D5CFD7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3A08-32F9-48C3-A6D1-0D3766D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4D67D-0AB6-48FD-AE69-3BA19CA7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9B0A-7D10-472A-AAD9-53AE8E35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A1A9A-E565-4CFC-AA9D-BD21C35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744F-396B-4563-8B6F-124F7F0C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F16B-1E76-4390-A731-01B654B9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86C0-6273-472D-BEDA-22903AE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FF68-8C07-45B3-BA81-EA91640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A88A-9823-4454-8E3A-04F534E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6B7-424A-48D7-87C7-CC02915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354F-1E88-46D3-A103-277C3590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8F05-5814-40D6-9F3C-ECB8A55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9AB9-9638-4318-870E-026D0C4E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47C1-024E-4B38-8748-C71C51D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623F-C6EC-4742-9290-12801F3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004C-7D51-47AF-A972-DC0543E5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5CBD-5A17-4753-B673-922D342A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08EF-6133-45F4-8AA4-E6A35BAF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1101-722D-43A0-8E93-69ACF51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3E58-3905-4B07-8F85-4BF732D0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3E7-EFAD-4C77-8422-0F778C0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64E2-D98F-4474-99A3-7AF03F6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0B12-CC0C-4900-A826-60196BF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CC54-9C45-4A93-A7F0-9EC7F913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B66B-8884-4FA1-9887-2BAB4D8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E364-5FB9-4AC2-A520-0395805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449D-520F-4224-A825-DCA10DC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C663-F318-4BAE-A68A-58DBDD0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B824-DEC8-4526-A8CD-21B5DF1D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2DFB-AE67-48B1-9167-FA7B718D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6773-E5A5-4E34-A6D3-934C2071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8B0-DDAB-4081-9756-1520F6C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DC89-93FA-473F-B763-A9CFFE59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D0D36-9E6B-4567-A077-ECABCA6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43A6-9D2A-4541-AD11-9B11EECA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FCE5-B361-40C7-A120-61317093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993C-41E6-4BEC-9D10-EE3EDF5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2C82-5978-42EE-AD86-A60773D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5BB8-13C1-40C6-94CA-0456941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CD99-64B6-42FB-AF63-A35CFEC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8B61-5DD2-4001-96A6-6A386523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F9F6-77DF-4A49-846D-AF566FFD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987-8FE1-4B51-89F2-C5699BCD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B7D4-597F-492A-9866-3BB1B9C8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F4DD-AA90-489C-AE07-A5CC864A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A6A9-3F68-4619-ABC2-6156C3C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EDA7-C359-43DB-A454-A3036E18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8151-90D3-4E16-8AD9-D4748E81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8C19E-B362-4B29-9745-88EE2E91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A4E0-9572-4DDA-8200-4772489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70B0-B258-4ACC-A18A-D430536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205D-6F34-4337-AF92-2642287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266CF-B26C-4CF6-BE08-DCC403A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065-B00E-4379-B030-D3AE6F2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3E08-5C99-4934-8E89-7C708B5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0861-1EF1-4B23-98EF-56F282E7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2D4D-9A57-4934-9E13-6EADAB6C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DDC0-410E-4FD6-AD2A-36022B7B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12B9B-D1A4-4559-80D0-7FB00CC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D809-0987-44F5-9E06-8622CAD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C879-DAE3-4057-9BF7-DAFA858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DCD7B-8EAC-4B6B-8DB3-EE972E0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BBC5E-5282-4875-979F-D566031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4C35-DBE5-4160-A8A5-CEFA73F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B0E-A893-445E-950C-271E5ED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975C-56E1-4F62-8C14-3C4AA23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F4E4-C182-4563-AB6F-86E33C2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5146-BEB0-4145-B363-14CF4EAA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392F-7057-4937-A896-2ECB431D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B8CD-9740-4AC5-A098-1061E582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9A55F-3C4F-420E-9A52-074F7CFC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2FE1-68CB-43E0-8CA5-952E8D1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0B82-E7A7-4749-B0D8-499B344E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4C2C3-4335-4613-907B-41800FCD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6CFE5-D2D3-4D9D-8BC4-2850C52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6AF-B09F-47F6-A925-76EBC69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4116B-5CB4-4043-A64B-EDC6879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192B-0E61-4D9B-84E8-2D95F4C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946F-029B-4ADE-A9F4-AD4FA6F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DE38-3E16-4D59-B710-FE2462F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42D2B-C4EA-45DB-839E-CB5E47E0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A3E3-BFBC-4061-8A28-43F16D24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54E8-ACBA-46A4-B161-3FE63434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BBC2-2EC4-4ECE-894D-3296985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CA892-E421-4ADF-B743-0ADB21F7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37566-4B68-4430-A974-6B58800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258-6A91-43DC-A280-855D7B1FA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0A7-8B4A-4807-AC06-19851D6297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DEA7-A38E-4E96-8D1F-7CD1D1214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0BF-7E1A-4746-8BAF-89A33355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F80D-8D99-4CB4-9722-B76478C1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4B2D-173A-41F8-8AB3-A76FCE786A0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263-1621-49D0-AB50-E109942C5A3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AA44-6AB2-4DA9-A205-EE40C9CFA1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7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E11D-FB5C-46EE-A5A7-A6BB565A6F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83F-8D2C-4F4F-B400-15A8BBE765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Jon_Bon_Jovi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nbonjov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iddlesex_County_New_Jersey_Incorporated_and_Unincorporated_areas_Perth_Amboy_Highlighted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 Jov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s Cl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80880" y="1752480"/>
            <a:ext cx="4191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on married Dorothea Hurley, who is a karate instructor.  They have four children: Stephanie, Jesse, Jacob and Romeo 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"Bon Jovi, Jon." 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Grolier Multimedia Encyclopedi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2008. Grolier Online. 16 Mar. 2008 &lt;http://gme.grolier.com/cgi-bin/article?assetid=0038095-0&gt;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Bon Jovi Official Website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March 15, 2008.  http://www.bonjovi.com/bonjovi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ruce Springsteen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Wikipedia: The Free Encyclopedia.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 March 15, 2008.  http://en.wikipedia.org/wiki/Bruce_Springste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 Biography.”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bio.biography.com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2004.  A&amp;E Television Networks.  March 15, 2008.  http://www.biography.com/search/article.do?id954255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 Google Image Search.”  Google.  March 15, 2008.  http://images.google.com/images?gbv=2&amp;hl=en&amp;q=jon+bon+jovi+&amp;btnG=Search+Imag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The Internet Movie Database.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March 15, 2008.  http://www.imdb.com/name/nm0000954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Wikipedia: The Free Encyclopedi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March 15, 2008.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Bookman Old Style"/>
                <a:hlinkClick r:id="rId2"/>
              </a:rPr>
              <a:t>http://en.wikipedia.org/wiki/Jon_Bon_Jo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n Bon J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" descr="Jon Bon Jovi in the Netherlands May 26 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Location of Perth Amboy in Middlesex County(click image to enlarge; also see: state map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685800"/>
            <a:ext cx="5410440" cy="41990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914400" y="487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orn in Perth Amboy, New Jersey, on March 2, 1962, John Bongiovi was raised in Sayreville, New Jers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s a teenager, John idolized Bruce Springsteen. While playing in a garage band, he met pianist David Bryan.  The two of them formed the band Atlantic City Express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095560" cy="2733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."/>
          <p:cNvPicPr/>
          <p:nvPr/>
        </p:nvPicPr>
        <p:blipFill>
          <a:blip r:embed="rId2"/>
          <a:stretch/>
        </p:blipFill>
        <p:spPr>
          <a:xfrm>
            <a:off x="4800600" y="3124080"/>
            <a:ext cx="3276720" cy="26528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419720" y="457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uce Springs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1320" y="57913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avid B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914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 1980, “Runaway” made the local airwaves.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073240" cy="285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3200400" cy="31050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762120" y="2590920"/>
            <a:ext cx="3333600" cy="4000320"/>
          </a:xfrm>
          <a:prstGeom prst="rect">
            <a:avLst/>
          </a:prstGeom>
          <a:ln w="0">
            <a:noFill/>
          </a:ln>
        </p:spPr>
      </p:pic>
    </p:spTree>
  </p:cSld>
  <p:transition advTm="1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n formed a band with David, Tico Torres, Alec Such and Richie Sambo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-42847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4038480" y="3276720"/>
            <a:ext cx="4457880" cy="30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rek Schulman, a record executive, signed them to PolyGram in 1983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ulman was the one to suggest changing the band’s name to Bon Jovi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219320" y="167652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self-titled debut was out in January of 1984.  The record went gold, and the band toured with the Scorpions, Kiss and Judas Priest.  The third album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Slippery When Wet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went gold and platinum six weeks after its release.  Fourteen million copies we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532400" cy="54482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410080" y="609480"/>
            <a:ext cx="327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group continues to record and release albums.  Jon also started an acting career in the 1990s. He has starred in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Moonlight and Valentino (1995), Pay it Forward (2000) and U-571 (200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0:44:54Z</dcterms:created>
  <dc:creator>Marty Laumeyer</dc:creator>
  <dc:description/>
  <dc:language>en-US</dc:language>
  <cp:lastModifiedBy>Classroom/Lab</cp:lastModifiedBy>
  <dcterms:modified xsi:type="dcterms:W3CDTF">2008-05-02T15:53:22Z</dcterms:modified>
  <cp:revision>10</cp:revision>
  <dc:subject/>
  <dc:title>Slide 1</dc:title>
</cp:coreProperties>
</file>